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5.jpeg" ContentType="image/jpeg"/>
  <Override PartName="/ppt/media/image24.wmf" ContentType="image/x-wmf"/>
  <Override PartName="/ppt/media/image21.jpeg" ContentType="image/jpeg"/>
  <Override PartName="/ppt/media/image16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media/image22.jpeg" ContentType="image/jpe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AutoShape 1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AutoShape 2"/>
          <p:cNvSpPr/>
          <p:nvPr/>
        </p:nvSpPr>
        <p:spPr>
          <a:xfrm>
            <a:off x="0" y="0"/>
            <a:ext cx="6735600" cy="9867960"/>
          </a:xfrm>
          <a:custGeom>
            <a:avLst/>
            <a:gdLst>
              <a:gd name="textAreaLeft" fmla="*/ 360 w 6735600"/>
              <a:gd name="textAreaRight" fmla="*/ 6735240 w 673560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644">
                <a:moveTo>
                  <a:pt x="5" y="0"/>
                </a:moveTo>
                <a:arcTo wR="5" hR="5" stAng="16200000" swAng="-5400000"/>
                <a:lnTo>
                  <a:pt x="0" y="31639"/>
                </a:lnTo>
                <a:arcTo wR="5" hR="5" stAng="10800000" swAng="-5400000"/>
                <a:lnTo>
                  <a:pt x="21595" y="31644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4"/>
          </p:nvPr>
        </p:nvSpPr>
        <p:spPr>
          <a:xfrm>
            <a:off x="3814920" y="-360"/>
            <a:ext cx="291600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901800" y="740880"/>
            <a:ext cx="492912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0920" cy="443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5"/>
          </p:nvPr>
        </p:nvSpPr>
        <p:spPr>
          <a:xfrm>
            <a:off x="-360" y="93740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6"/>
          </p:nvPr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FA759-3457-4824-92FF-81B2AB016F7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37E7E6-2BDA-49E7-A38C-A1785DE5BEE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Text Box 1"/>
          <p:cNvSpPr/>
          <p:nvPr/>
        </p:nvSpPr>
        <p:spPr>
          <a:xfrm>
            <a:off x="903240" y="7412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93AF5D-8207-4CA4-A66A-C68AB3C10B4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4B685-721D-4B07-B3EF-8858DC7AF19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390EF-D09B-4EDF-99A2-0C15D1E3BDB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C7A99-C99B-4FCF-90BD-EA24EF383A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458EF5-47BC-415C-A28F-A5EAF3E3045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Text Box 1"/>
          <p:cNvSpPr/>
          <p:nvPr/>
        </p:nvSpPr>
        <p:spPr>
          <a:xfrm>
            <a:off x="901800" y="739800"/>
            <a:ext cx="493848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E81808-E809-46C5-89C9-78F459AA3A9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7B9851-E4AC-4B0C-B68A-3219EC20A0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829D5-4798-4442-B9D0-FE373B66CEE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547EF-AC20-4BBD-9A50-698FC634776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FF9626-D119-4BF2-8A68-C16342028D3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BEA99-779B-4981-92D9-7DD52BCB086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673B72-4D42-4817-BD41-6607AD21A0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437A94-D028-4E7B-80F0-310A2030415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DD0484-BC2F-42DC-9DCC-2FE9E49599D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9D078-0937-4AE2-8C9F-CBE72C6D63C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2F30C-CC2E-462D-82B7-619B4C738AF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3C104-5EDA-4AA7-8EE6-D2E3099B45C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38D54-C5F8-42C7-9905-B0EF1709B4C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9EEE7-FA7F-4CC1-B25C-6F879A1F61C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57BD0-2128-4CC6-B2C7-B8C7E6F6718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1011F-18ED-47B6-9094-391BAE9E262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24E19F-3FB3-4160-9007-B454755B08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2720F-5044-4BBD-BF2D-C0CDCBDB4DB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79C644-3201-4405-AB8B-2AAF6F3D44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Text Box 1"/>
          <p:cNvSpPr/>
          <p:nvPr/>
        </p:nvSpPr>
        <p:spPr>
          <a:xfrm>
            <a:off x="903240" y="74124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6AEBD3-FB70-4AFE-AD43-5E9D7615340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0BF662-219E-4CD5-98B1-498FCBB523D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FBDA6E-3C4E-4B40-9573-09B1AFBAD8F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Text Box 1"/>
          <p:cNvSpPr/>
          <p:nvPr/>
        </p:nvSpPr>
        <p:spPr>
          <a:xfrm>
            <a:off x="901800" y="74124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body"/>
          </p:nvPr>
        </p:nvSpPr>
        <p:spPr>
          <a:xfrm>
            <a:off x="896760" y="4684320"/>
            <a:ext cx="4940640" cy="444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Loin de remettre en cause notre politique de l’eau, la directive cad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confirme et renforce les principes de gestion de l’eau en France. Mais el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va plus loin, en introduisant trois principes qui en font un instru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d’une politique de développement durable dans le domaine de l’eau : 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participation du public, la prise en compte des considérations socioéconom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liss-Bold"/>
                <a:ea typeface="Arial Unicode MS"/>
              </a:rPr>
              <a:t>et les résultats environnementau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56AF51-DAF6-44EA-960F-F32FA3088C3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3814920" y="9374040"/>
            <a:ext cx="29160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D04AC9-1D94-4CC3-A708-4EF8A9DAA3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Text Box 1"/>
          <p:cNvSpPr/>
          <p:nvPr/>
        </p:nvSpPr>
        <p:spPr>
          <a:xfrm>
            <a:off x="901800" y="74124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body"/>
          </p:nvPr>
        </p:nvSpPr>
        <p:spPr>
          <a:xfrm>
            <a:off x="899640" y="4686120"/>
            <a:ext cx="49323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C4401-EF73-4F7E-A78E-77F8A37333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9AD8-90E0-431E-B8C6-ECFB208D3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0F849-3564-4C27-B7E2-C670E69DB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14828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2040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67616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14828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2040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B9FA3-8969-4657-A6CF-0F2F363087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599840" y="685440"/>
            <a:ext cx="73882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4EA8-809F-4F5D-9525-5360CEBC2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14828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20400" y="213336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67616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414828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620400" y="4281120"/>
            <a:ext cx="235404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EE044-4CDF-4096-A91F-3D356B15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92614-1FF1-4E54-A2CF-3AF6A7DCE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0DE52-5685-4E25-B318-93681FD1D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99840" y="685440"/>
            <a:ext cx="738828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41E8-EA8A-42B3-B29B-3836C2EB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3D0D-3FF3-4E02-B7FD-31743528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423040" y="428112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AEFB3-AA23-4C43-81AE-01FCDB7F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7616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423040" y="2133360"/>
            <a:ext cx="3567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676160" y="4281120"/>
            <a:ext cx="7311960" cy="196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3FCA-0177-492A-BC65-C2181EE52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388280" cy="11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76160" y="2133360"/>
            <a:ext cx="7311960" cy="411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" name="Object 3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3" name="Line 4"/>
          <p:cNvSpPr/>
          <p:nvPr/>
        </p:nvSpPr>
        <p:spPr>
          <a:xfrm>
            <a:off x="396720" y="4089240"/>
            <a:ext cx="719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Object 5" descr=""/>
          <p:cNvPicPr/>
          <p:nvPr/>
        </p:nvPicPr>
        <p:blipFill>
          <a:blip r:embed="rId3"/>
          <a:stretch/>
        </p:blipFill>
        <p:spPr>
          <a:xfrm>
            <a:off x="36036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" name="Text Box 6"/>
          <p:cNvSpPr/>
          <p:nvPr/>
        </p:nvSpPr>
        <p:spPr>
          <a:xfrm>
            <a:off x="1905120" y="146160"/>
            <a:ext cx="6400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entury Gothic"/>
              </a:rPr>
              <a:t>DIRECTION DE L’EAU DE LA BIODIVERSI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Object 7" descr=""/>
          <p:cNvPicPr/>
          <p:nvPr/>
        </p:nvPicPr>
        <p:blipFill>
          <a:blip r:embed="rId4"/>
          <a:stretch/>
        </p:blipFill>
        <p:spPr>
          <a:xfrm>
            <a:off x="0" y="1133640"/>
            <a:ext cx="1498680" cy="19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-360" y="4266720"/>
            <a:ext cx="1521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A8412A-8D38-4D34-9AE5-FC77CDABC90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Text Box 9"/>
          <p:cNvSpPr/>
          <p:nvPr/>
        </p:nvSpPr>
        <p:spPr>
          <a:xfrm>
            <a:off x="0" y="32767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dt" idx="2"/>
          </p:nvPr>
        </p:nvSpPr>
        <p:spPr>
          <a:xfrm>
            <a:off x="-360" y="3809520"/>
            <a:ext cx="152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" name="Picture 11" descr=""/>
          <p:cNvPicPr/>
          <p:nvPr/>
        </p:nvPicPr>
        <p:blipFill>
          <a:blip r:embed="rId5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480" y="2133720"/>
            <a:ext cx="72360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8" name="Object 2" descr=""/>
          <p:cNvPicPr/>
          <p:nvPr/>
        </p:nvPicPr>
        <p:blipFill>
          <a:blip r:embed="rId2"/>
          <a:stretch/>
        </p:blipFill>
        <p:spPr>
          <a:xfrm>
            <a:off x="0" y="0"/>
            <a:ext cx="1546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Line 3"/>
          <p:cNvSpPr/>
          <p:nvPr/>
        </p:nvSpPr>
        <p:spPr>
          <a:xfrm>
            <a:off x="396720" y="4089240"/>
            <a:ext cx="7192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3"/>
          <a:stretch/>
        </p:blipFill>
        <p:spPr>
          <a:xfrm>
            <a:off x="361800" y="0"/>
            <a:ext cx="8782200" cy="60948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1447920" y="155520"/>
            <a:ext cx="7061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100" spc="-1" strike="noStrike">
                <a:solidFill>
                  <a:srgbClr val="ffffff"/>
                </a:solidFill>
                <a:latin typeface="Century Gothic"/>
              </a:rPr>
              <a:t>DIRECTION DE L’EAU ET DE LA BIODIVERSI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4"/>
          <a:stretch/>
        </p:blipFill>
        <p:spPr>
          <a:xfrm>
            <a:off x="3200400" y="609480"/>
            <a:ext cx="1409760" cy="10796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dt" idx="3"/>
          </p:nvPr>
        </p:nvSpPr>
        <p:spPr>
          <a:xfrm>
            <a:off x="-360" y="3809520"/>
            <a:ext cx="1521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en-GB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0" y="3276720"/>
            <a:ext cx="15238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5"/>
          <a:stretch/>
        </p:blipFill>
        <p:spPr>
          <a:xfrm>
            <a:off x="6095880" y="609480"/>
            <a:ext cx="175284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"/>
          <p:cNvPicPr/>
          <p:nvPr/>
        </p:nvPicPr>
        <p:blipFill>
          <a:blip r:embed="rId6"/>
          <a:stretch/>
        </p:blipFill>
        <p:spPr>
          <a:xfrm>
            <a:off x="4597560" y="609480"/>
            <a:ext cx="1498320" cy="1079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"/>
          <p:cNvPicPr/>
          <p:nvPr/>
        </p:nvPicPr>
        <p:blipFill>
          <a:blip r:embed="rId7"/>
          <a:stretch/>
        </p:blipFill>
        <p:spPr>
          <a:xfrm>
            <a:off x="7810560" y="609480"/>
            <a:ext cx="1333440" cy="1079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"/>
          <p:cNvPicPr/>
          <p:nvPr/>
        </p:nvPicPr>
        <p:blipFill>
          <a:blip r:embed="rId8"/>
          <a:stretch/>
        </p:blipFill>
        <p:spPr>
          <a:xfrm>
            <a:off x="7772400" y="609480"/>
            <a:ext cx="1371600" cy="106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3" descr=""/>
          <p:cNvPicPr/>
          <p:nvPr/>
        </p:nvPicPr>
        <p:blipFill>
          <a:blip r:embed="rId9"/>
          <a:stretch/>
        </p:blipFill>
        <p:spPr>
          <a:xfrm>
            <a:off x="0" y="609480"/>
            <a:ext cx="3219480" cy="2438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3"/>
          <p:cNvSpPr>
            <a:spLocks noGrp="1"/>
          </p:cNvSpPr>
          <p:nvPr>
            <p:ph type="body"/>
          </p:nvPr>
        </p:nvSpPr>
        <p:spPr>
          <a:xfrm>
            <a:off x="720360" y="1604880"/>
            <a:ext cx="79628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Century Gothic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lnSpc>
                <a:spcPct val="98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61" name="Picture 15" descr=""/>
          <p:cNvPicPr/>
          <p:nvPr/>
        </p:nvPicPr>
        <p:blipFill>
          <a:blip r:embed="rId10"/>
          <a:stretch/>
        </p:blipFill>
        <p:spPr>
          <a:xfrm>
            <a:off x="0" y="4876920"/>
            <a:ext cx="1557360" cy="1981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05120" y="243648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3c49a8"/>
                </a:solidFill>
                <a:latin typeface="Arial"/>
              </a:rPr>
              <a:t>La politique française de l’eau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133720" y="4355640"/>
            <a:ext cx="640080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505320" y="152280"/>
            <a:ext cx="1447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7147080" y="583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A0EB39-6A72-4EA4-8A30-60F593E2684C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Atteinte du bon état des eaux côtières en 2015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2814480" y="1371600"/>
            <a:ext cx="468648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564041-FD85-4C3E-AFB7-BF080A602C28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lution diffuse agricol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676520" y="1600200"/>
            <a:ext cx="731520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de la D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roche combinée (2012)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jets soumis à autorisation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aleurs limites d’émission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fs de qualité environnemental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3 substances prioritair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de la LEMA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lans d’action pouvant être obligatoires dans les secteurs sensibles (zones d’alimentation des captages, zones humides d’intérêt particulier, zones d’érosion diffuse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çabilité des ventes des produits phytosanitaires et des biocid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ôle des pulvérisateurs utilisés pour l’application de ces produi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evance au profit des agences de l’eau (écotoxicité des produit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5638680" y="1523880"/>
            <a:ext cx="3086280" cy="2043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6781680" y="350532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2FAFF8-4471-4B45-9A39-C5FE0943F911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’assainissement collectif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48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 15000 stations d’épuration en France dont 900 &gt; 10000 équivalent hb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rective européenne eaux résiduaires urbaines de 1991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3/4 du territoire en zones sensibles à l’eutrophisation 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18 stations d’épuration &gt; 10000 équivalent hbt concernées avec traitement plus rigoureux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84 stations &gt; 15000 équivalent hbt rejetant en zone normale (traitement secondaire)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500" spc="-1" strike="noStrike">
                <a:solidFill>
                  <a:srgbClr val="000000"/>
                </a:solidFill>
                <a:latin typeface="Arial"/>
              </a:rPr>
              <a:t>Certaines communes n’ont pas encore mis en place de traitement plus rigoureux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lan d’action de mise en conformité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ssion coercitive de l’Etat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signation des fonds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ndamnations pénales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ides financières dégressives des agences de l’eau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uspension des primes 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374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isation des organismes de prêts aux collectivités</a:t>
            </a: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D1936-B6E2-4D30-A76A-A6AFBA0C7A2A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76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’assainissement non collectif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676520" y="1752120"/>
            <a:ext cx="7315200" cy="449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,1 millions de logements concernés en zones périurbaines ou rural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munes en charge du contrôle de la qualité et du bon fonctionn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 installation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cadrement réglementaire 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de général des collectivités territoriales et code de la santé publ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rrêtés d’application (contrôle des installations, prescriptions techniques, agrément des sociétés réalisant les vidange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2781360" cy="184140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3581280" y="6477120"/>
            <a:ext cx="9144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osse toutes-eaux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4495680" y="632448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Espace réservé du numéro de diapositive 1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F2D065-1D34-4ADC-9522-21388C4D201E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Text Box 1"/>
          <p:cNvSpPr/>
          <p:nvPr/>
        </p:nvSpPr>
        <p:spPr>
          <a:xfrm>
            <a:off x="1600200" y="760680"/>
            <a:ext cx="7391520" cy="10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lan de gestion de la rareté de l’eau</a:t>
            </a:r>
            <a:br>
              <a:rPr sz="2400"/>
            </a:br>
            <a:br>
              <a:rPr sz="20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 Restaurer l’équilibre entre l’offre et la demande en ea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1523880" y="2209680"/>
            <a:ext cx="74678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écheresses répétées, déséquilibre chronique dans certaines rég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26 mesures, 3 axe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iorité à l’eau potabl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estion économe de l’eau et partage entre les usages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(optimisation des systèmes d’irrigation + meilleure adaptation des cultures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isation de l’eau 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récupération eaux de pluies, réutilisation eaux traitées, recharge artificielle nappes souterraines, dessalement eau de mer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Objectif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économie d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ressources de substitu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gestion collective de la ressource en eau (LEM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3ABB08-9220-45D4-9ACD-35DADC4E3DD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Gestion des inondatio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1752480" y="6232680"/>
            <a:ext cx="7467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600200" y="4572000"/>
            <a:ext cx="708660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ye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service technique central d’appui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(SCHAPI),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22 services de prévisions des crues (SPC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219320" y="1600200"/>
            <a:ext cx="7543800" cy="15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mportantes avancées pour la prévention des inond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informer, prévenir, développer la conscience du risqu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nouveaux outils de prévention (servitudes de sur-inondation, lutte contre l'érosion des sols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Rectangle 5"/>
          <p:cNvSpPr/>
          <p:nvPr/>
        </p:nvSpPr>
        <p:spPr>
          <a:xfrm>
            <a:off x="1600200" y="3200400"/>
            <a:ext cx="6705720" cy="18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travaux des collectivité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réduire la vulnérabilité de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zones inondables et répar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les dommag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3429000" cy="22762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7"/>
          <p:cNvSpPr/>
          <p:nvPr/>
        </p:nvSpPr>
        <p:spPr>
          <a:xfrm>
            <a:off x="5562720" y="5486400"/>
            <a:ext cx="3276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Véhicule des pompiers en cours d'intervention dans un champ d'expansion des crues ( Narbonne 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7010280" y="5257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C70281-4BD9-471D-9A04-B2FDAD6C0150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arte des programmes d’actions de prévention des inondations (PAPI)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1981080" y="1600200"/>
            <a:ext cx="6791400" cy="480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567C69-604B-48CD-A8E3-2AFAE036271B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institutionnel</a:t>
            </a:r>
            <a:br>
              <a:rPr sz="2400"/>
            </a:br>
            <a:br>
              <a:rPr sz="22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3 grands acteurs, 3 domaines de compétenc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676520" y="2362320"/>
            <a:ext cx="7315200" cy="495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écideurs locaux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collectivités territoriales, agriculteurs, industriels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vestissements 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devances aux agences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Organismes de bassin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itiqu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erception et redistribution des redevance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Etat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Direction de l’eau du Ministère de l’Ecologie, du Développement et d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’Aménagement Durables : animateur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glementation et contrôle (police de l’eau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ice national de l’eau et des milieux aquatiques (ONEMA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308FE-653A-4135-9CD8-D8516C64328D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676160" y="685800"/>
            <a:ext cx="746748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comités de bassin</a:t>
            </a:r>
            <a:r>
              <a:rPr b="1" i="1" lang="en-GB" sz="2700" spc="-1" strike="noStrike">
                <a:solidFill>
                  <a:srgbClr val="006699"/>
                </a:solidFill>
                <a:latin typeface="Arial"/>
              </a:rPr>
              <a:t> </a:t>
            </a:r>
            <a:endParaRPr b="1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1600200" y="3733920"/>
            <a:ext cx="7238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  <a:ea typeface="Arial Unicode MS"/>
              </a:rPr>
              <a:t>Les commissions locales de l’ea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362240"/>
                <a:tab algn="l" pos="1811160"/>
                <a:tab algn="l" pos="2260440"/>
                <a:tab algn="l" pos="2709720"/>
                <a:tab algn="l" pos="3159000"/>
                <a:tab algn="l" pos="3608280"/>
                <a:tab algn="l" pos="4057560"/>
                <a:tab algn="l" pos="4506840"/>
                <a:tab algn="l" pos="4956120"/>
                <a:tab algn="l" pos="5405400"/>
                <a:tab algn="l" pos="5854680"/>
                <a:tab algn="l" pos="6303960"/>
                <a:tab algn="l" pos="6753240"/>
                <a:tab algn="l" pos="7202520"/>
                <a:tab algn="l" pos="7651800"/>
                <a:tab algn="l" pos="8101080"/>
                <a:tab algn="l" pos="8550360"/>
                <a:tab algn="l" pos="8999640"/>
                <a:tab algn="l" pos="9448920"/>
                <a:tab algn="l" pos="98982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5791320" y="1828800"/>
            <a:ext cx="3124080" cy="21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élaboration et adoption des Schémas Directeurs d'Aménagement et de Gestion des Eaux (SDAG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rientation de la politique d’intervention financière des agences de l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248520" y="4876920"/>
            <a:ext cx="2590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élaboration, adoption et suivi des Schémas d’Amenagement et de Gestion des Eaux (SAG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8" name="Object 5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3657600" cy="2050920"/>
          </a:xfrm>
          <a:prstGeom prst="rect">
            <a:avLst/>
          </a:prstGeom>
          <a:ln w="0">
            <a:noFill/>
          </a:ln>
        </p:spPr>
      </p:pic>
      <p:pic>
        <p:nvPicPr>
          <p:cNvPr id="199" name="Object 6" descr=""/>
          <p:cNvPicPr/>
          <p:nvPr/>
        </p:nvPicPr>
        <p:blipFill>
          <a:blip r:embed="rId2"/>
          <a:stretch/>
        </p:blipFill>
        <p:spPr>
          <a:xfrm>
            <a:off x="2209680" y="4610160"/>
            <a:ext cx="362916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65FEC-042A-4178-9D98-E045BF2D96A4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agences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76520" y="167652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6 agences de l’eau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éservation, amélioration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 la ressource en eau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utte contre la pollu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formation du public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devances et aides aux 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vestissement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04" name="Picture 3" descr=""/>
          <p:cNvPicPr/>
          <p:nvPr/>
        </p:nvPicPr>
        <p:blipFill>
          <a:blip r:embed="rId1"/>
          <a:stretch/>
        </p:blipFill>
        <p:spPr>
          <a:xfrm>
            <a:off x="4952880" y="1752480"/>
            <a:ext cx="3702240" cy="47246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4952880" y="64771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 de l’E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9D535-11ED-4466-B986-5C6E13967B4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800" spc="-1" strike="noStrike">
                <a:solidFill>
                  <a:srgbClr val="3c49a8"/>
                </a:solidFill>
                <a:latin typeface="Arial"/>
              </a:rPr>
              <a:t>Sommaire</a:t>
            </a:r>
            <a:endParaRPr b="1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76520" y="1523880"/>
            <a:ext cx="7315200" cy="472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Deux parties :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olitique de l’eau en F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oopération internationale français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563400"/>
                <a:tab algn="l" pos="1012680"/>
                <a:tab algn="l" pos="1461960"/>
                <a:tab algn="l" pos="1911240"/>
                <a:tab algn="l" pos="2360520"/>
                <a:tab algn="l" pos="2809800"/>
                <a:tab algn="l" pos="3259080"/>
                <a:tab algn="l" pos="3708360"/>
                <a:tab algn="l" pos="4157640"/>
                <a:tab algn="l" pos="4606920"/>
                <a:tab algn="l" pos="5056200"/>
                <a:tab algn="l" pos="5505480"/>
                <a:tab algn="l" pos="5954760"/>
                <a:tab algn="l" pos="6404040"/>
                <a:tab algn="l" pos="6853320"/>
                <a:tab algn="l" pos="7302600"/>
                <a:tab algn="l" pos="7751880"/>
                <a:tab algn="l" pos="8201160"/>
                <a:tab algn="l" pos="8650440"/>
                <a:tab algn="l" pos="909972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95B0F7-FFAC-4F6F-B2BF-5433BF125D9A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00200" y="836280"/>
            <a:ext cx="7391520" cy="84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institutionnel des services d’eau et d’assainissement : les collectivités responsable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76520" y="1828800"/>
            <a:ext cx="7315200" cy="527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s consommateurs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financent les services d’eau potable et d’assainissement (« l’eau paie l’eau »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commune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x moyen de l’eau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: 2,77 euros/m3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ce: NUS Consulting 2006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udget spécifique et contrôle les compt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glementation sanitaire et environnemental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de de gestion : régie ou délégation. 26% de la population desservie par un opérateur public, 74% par un opérateur privé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sce: rapport BIPE/FP2E 2006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10" name="Picture 3" descr=""/>
          <p:cNvPicPr/>
          <p:nvPr/>
        </p:nvPicPr>
        <p:blipFill>
          <a:blip r:embed="rId1"/>
          <a:stretch/>
        </p:blipFill>
        <p:spPr>
          <a:xfrm>
            <a:off x="3429000" y="5791320"/>
            <a:ext cx="1447920" cy="841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4" descr=""/>
          <p:cNvPicPr/>
          <p:nvPr/>
        </p:nvPicPr>
        <p:blipFill>
          <a:blip r:embed="rId2"/>
          <a:stretch/>
        </p:blipFill>
        <p:spPr>
          <a:xfrm>
            <a:off x="5334120" y="5638680"/>
            <a:ext cx="1066680" cy="106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B0D5C2-F963-4974-A2A2-52F836210301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Text Box 1"/>
          <p:cNvSpPr/>
          <p:nvPr/>
        </p:nvSpPr>
        <p:spPr>
          <a:xfrm>
            <a:off x="1600200" y="1676520"/>
            <a:ext cx="7162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rapport des délégatai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qualité de l’eau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d4d4d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e rapport du mai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prix, qualité du service public d’eau potable et d’assainissemen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commission consultative des services publics locaux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obligatoire pour toute commune de plus de 10 000 habita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716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transparence des services d'eau et d'assainissement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D1FFF-85E0-4B19-93B4-620594BFCE23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99840" y="68544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prix de l’eau pour les usager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9" name="Text Box 2"/>
          <p:cNvSpPr/>
          <p:nvPr/>
        </p:nvSpPr>
        <p:spPr>
          <a:xfrm>
            <a:off x="1600200" y="1523880"/>
            <a:ext cx="716292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Object 3" descr=""/>
          <p:cNvPicPr/>
          <p:nvPr/>
        </p:nvPicPr>
        <p:blipFill>
          <a:blip r:embed="rId1"/>
          <a:stretch/>
        </p:blipFill>
        <p:spPr>
          <a:xfrm>
            <a:off x="1523880" y="1371600"/>
            <a:ext cx="3962520" cy="23414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1523880" y="365760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Medad, 200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Rectangle 5"/>
          <p:cNvSpPr/>
          <p:nvPr/>
        </p:nvSpPr>
        <p:spPr>
          <a:xfrm>
            <a:off x="1542960" y="157176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4876920" y="3733920"/>
            <a:ext cx="403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3c49a8"/>
                </a:solidFill>
                <a:latin typeface="Arial"/>
              </a:rPr>
              <a:t>Prix moyen sur le bassin Artois Picardie en 2006 (euro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7" descr=""/>
          <p:cNvPicPr/>
          <p:nvPr/>
        </p:nvPicPr>
        <p:blipFill>
          <a:blip r:embed="rId2"/>
          <a:stretch/>
        </p:blipFill>
        <p:spPr>
          <a:xfrm>
            <a:off x="4648320" y="4033800"/>
            <a:ext cx="4322520" cy="282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DFFA3E-7A00-40EC-8555-92866B947915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prix moyen de l’eau dans les pays europée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2057400" y="1795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7032600" cy="38005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6629400" y="60120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ource: NUS Consulting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00200" y="27428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3c49a8"/>
                </a:solidFill>
                <a:latin typeface="Arial"/>
              </a:rPr>
              <a:t>La coopération internationale française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2133720" y="5423040"/>
            <a:ext cx="64008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051D09-2543-4280-943E-81F6D51E9DD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’eau, un enjeu mondial pour le XXIème siècle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76520" y="1523520"/>
            <a:ext cx="7315200" cy="52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itique et géopolitiqu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0 bassins fluviaux partagés par deux ou plusieurs Etats, risque accru de confli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économ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ins de 0,5% des PIB des pays en développement consacrés à l’eau et à l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cial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.1 milliard de personnes n’ont pas accès à l’eau potabl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.4 milliards de personnes n’ont pas accès à des installations d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uvaise qualité de l’eau : 1ère cause de mortalité dans le mond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nvironnemental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SzPct val="80000"/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700 millions de personnes de 43 pays sous le seuil de stress hydr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5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6629400" y="6459480"/>
            <a:ext cx="2514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source: PNUD, 200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07914D-1317-4B80-96ED-5FA91F8361B9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France : 4ème bailleur de fonds dans le secteur de l’eau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828800" y="2286000"/>
            <a:ext cx="731520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f du Millénaire pour le développement n°7 (accès à l’eau et à l’assainissement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ment aide gouvernementale d’ici 2009 (Afrique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opération décentralisée (loi Oudin-Santini, 2005)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oublement aides allouées aux ONG pour des actions de coopération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49D93B-C05E-4E0A-91AA-7DCA321CC82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a France : 4ème bailleur de fonds dans le secteur de l’eau</a:t>
            </a:r>
            <a:br>
              <a:rPr sz="2400"/>
            </a:br>
            <a:br>
              <a:rPr sz="24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es thématiques d’engagement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676520" y="2437920"/>
            <a:ext cx="7315200" cy="490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éfinition par un gouvernement de sa politique national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ès renforcé et équitable à l’eau et à l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intégrée et efficiente des ressources à l’échelle des bassins versant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ne gouvernan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mplication des acteurs locaux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uivi et évaluatio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gique de résulta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532BB-0679-4C20-AD02-7141C96BAB8D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30280" indent="0" algn="ctr">
              <a:lnSpc>
                <a:spcPct val="100000"/>
              </a:lnSpc>
              <a:buNone/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Partenariat Français sur l’Eau (PFE)</a:t>
            </a:r>
            <a:br>
              <a:rPr sz="2400"/>
            </a:br>
            <a:br>
              <a:rPr sz="2000"/>
            </a:br>
            <a:r>
              <a:rPr b="1" lang="en-GB" sz="1800" spc="-1" strike="noStrike">
                <a:solidFill>
                  <a:srgbClr val="3c49a8"/>
                </a:solidFill>
                <a:latin typeface="Arial"/>
              </a:rPr>
              <a:t>Une offre globale de coopération des acteurs français publics et privés : une porte d’entrée pour les partenaires étranger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676520" y="2666520"/>
            <a:ext cx="7315200" cy="358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teur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llectivités, Etat, parlementaires, Agence Française de Développement (AFD), agences de l’eau, grands groupes, sociétés d’ingénierie, PME-PMI, organisations scientifiques et techniques, organisations non gouvernementales (ONG), organismes de recherche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bjectif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ire connaître les actions de ses membres et de la communauté internationale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ributions aux représentants du gouvernement françai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34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ssages communs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obilisation principale : 5ème Forum mondial de l’eau d’Istanbul (mars 2009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4572000" y="6400800"/>
            <a:ext cx="1523880" cy="304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3657600" y="6573960"/>
            <a:ext cx="35812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3c49a8"/>
                </a:solidFill>
                <a:latin typeface="Arial"/>
              </a:rPr>
              <a:t>www.eau-international-france.f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5"/>
          <p:cNvSpPr/>
          <p:nvPr/>
        </p:nvSpPr>
        <p:spPr>
          <a:xfrm>
            <a:off x="2414520" y="244800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3666960" y="301932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Picture 7" descr=""/>
          <p:cNvPicPr/>
          <p:nvPr/>
        </p:nvPicPr>
        <p:blipFill>
          <a:blip r:embed="rId1"/>
          <a:stretch/>
        </p:blipFill>
        <p:spPr>
          <a:xfrm>
            <a:off x="4114800" y="5715000"/>
            <a:ext cx="1809720" cy="81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B333DA-8430-4B4B-AB6F-F5E637834E8C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53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676520" y="1447560"/>
            <a:ext cx="7315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ne expérience français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arge décentralisation et participation des acteur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globale des ressources en eau par bassin versant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oit d’accès à l’eau potable à des conditions économiquement acceptables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ouvelle politique pour atteindre le bon état écologique des eaux (changement climatique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Un savoir-faire au service de la communauté internationale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einte des « Objectifs du Millénaire »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ffre intégrée de coopération des acteurs françai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124080" y="4876920"/>
            <a:ext cx="35053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Pour plus d’informations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c49a8"/>
                </a:solidFill>
                <a:latin typeface="Times New Roman"/>
              </a:rPr>
              <a:t>http://www.ecologie.gouv.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3c49a8"/>
                </a:solidFill>
                <a:latin typeface="Times New Roman"/>
              </a:rPr>
              <a:t>http://www.eau-international-France.f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2971800" y="62485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rédits photographiques :  Laurent Mignaux@ME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e la date 2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5120" y="243648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marL="530280" indent="0" algn="ctr">
              <a:lnSpc>
                <a:spcPct val="100000"/>
              </a:lnSpc>
              <a:buNone/>
              <a:tabLst>
                <a:tab algn="l" pos="0"/>
                <a:tab algn="l" pos="530280"/>
                <a:tab algn="l" pos="977760"/>
                <a:tab algn="l" pos="1427040"/>
                <a:tab algn="l" pos="1876320"/>
                <a:tab algn="l" pos="2325600"/>
                <a:tab algn="l" pos="2774880"/>
                <a:tab algn="l" pos="3224160"/>
                <a:tab algn="l" pos="3673440"/>
                <a:tab algn="l" pos="4122720"/>
                <a:tab algn="l" pos="4572000"/>
                <a:tab algn="l" pos="5021280"/>
                <a:tab algn="l" pos="5470560"/>
                <a:tab algn="l" pos="5919840"/>
                <a:tab algn="l" pos="6369120"/>
                <a:tab algn="l" pos="6818400"/>
                <a:tab algn="l" pos="7267680"/>
                <a:tab algn="l" pos="7716960"/>
                <a:tab algn="l" pos="8166240"/>
                <a:tab algn="l" pos="8615520"/>
                <a:tab algn="l" pos="9064800"/>
                <a:tab algn="l" pos="9513720"/>
                <a:tab algn="l" pos="9883800"/>
                <a:tab algn="l" pos="10333080"/>
                <a:tab algn="l" pos="10782360"/>
              </a:tabLst>
            </a:pPr>
            <a:r>
              <a:rPr b="1" lang="en-GB" sz="3800" spc="-1" strike="noStrike">
                <a:solidFill>
                  <a:srgbClr val="3c49a8"/>
                </a:solidFill>
                <a:latin typeface="Arial"/>
              </a:rPr>
              <a:t>Politique de l’eau en France</a:t>
            </a:r>
            <a:endParaRPr b="1" lang="en-US" sz="3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2133720" y="2908440"/>
            <a:ext cx="64008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270EE-02D7-4276-9F3C-D078FD8B2FC1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2400" spc="-1" strike="noStrike">
                <a:solidFill>
                  <a:srgbClr val="3c49a8"/>
                </a:solidFill>
                <a:latin typeface="Arial"/>
              </a:rPr>
              <a:t>Merci de votre attention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676520" y="2133720"/>
            <a:ext cx="7315200" cy="41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98000"/>
              </a:lnSpc>
              <a:spcBef>
                <a:spcPts val="60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fr-FR" sz="24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7086600" cy="47037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4"/>
          <p:cNvSpPr/>
          <p:nvPr/>
        </p:nvSpPr>
        <p:spPr>
          <a:xfrm>
            <a:off x="7010280" y="6400800"/>
            <a:ext cx="2133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GB" sz="1000" spc="-1" strike="noStrike">
                <a:solidFill>
                  <a:srgbClr val="000000"/>
                </a:solidFill>
                <a:latin typeface="Lucida Console"/>
              </a:rPr>
              <a:t>Laurent Mignaux©MEDAD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33D584-1131-4E49-A623-5919FF68EF77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7391520" cy="99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es enjeux de la gestion de l’eau et des milieux aquatiques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676520" y="1905120"/>
            <a:ext cx="7315200" cy="4434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a France : un pays relativement favorisé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disparités par bassin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source pour milieux et usages : 3000 m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/an/hab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Medad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sommation domestique moyenne : 165 litres d’eau/hab/jour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(ifen2004)</a:t>
            </a: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2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s enjeux qualitatif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 état écologique des eaux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fforts sur pollutions diffuses agricoles et urbaines (directive nitrates, eaux résiduaires urbaines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Les enjeux quantitatif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hénomènes extrêmes : inondations et sécheresses (changement climatique et développement urbain)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B4F561-4D49-4F1F-9E76-9356ED9A0497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480" y="685440"/>
            <a:ext cx="73915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législatif européen</a:t>
            </a:r>
            <a:br>
              <a:rPr sz="2400"/>
            </a:br>
            <a:br>
              <a:rPr sz="2400"/>
            </a:br>
            <a:r>
              <a:rPr b="1" lang="en-GB" sz="2000" spc="-1" strike="noStrike">
                <a:solidFill>
                  <a:srgbClr val="3c49a8"/>
                </a:solidFill>
                <a:latin typeface="Arial"/>
              </a:rPr>
              <a:t>La Directive Cadre européenne sur l’eau (DCE) de 2000</a:t>
            </a:r>
            <a:endParaRPr b="1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828800" y="2209320"/>
            <a:ext cx="7315200" cy="491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bjectifs communs aux 27 Etats membr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n état écologique des eaux et des milieux aquatiques d'ici 2015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ogrammation et planification par district hydrograph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alyse économiqu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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cupération des coût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articipation renforcée des citoyen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80% de la législation française dans le secteur de l’eau découle de la législation européenn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Par ailleurs, d’autres directives sectorielles réglementent le secteur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6BC04-0472-4A5A-8853-4DFC8F53C98D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00200" y="685800"/>
            <a:ext cx="7391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 cadre législatif français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676520" y="1599840"/>
            <a:ext cx="7315200" cy="529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 textes rénovateurs</a:t>
            </a: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la Charte de l’environnement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: droit à un environnement sain et développement durable = constitutionnel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2006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 loi sur l’eau et les milieux aquatiques (LEMA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, outil pour atteindre les objectifs de la D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oit à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aptation au changement climatiqu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novation organisation institutionnelle 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ollutions diffuses agricoles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estion locale et concertée des ressources en 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mplifie et renforce la police de l’eau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ansparence des services publics de l’eau et d’assainissement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lvl="1" marL="739800" indent="-282600">
              <a:lnSpc>
                <a:spcPct val="9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éforme la pêche en eau douce</a:t>
            </a: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6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  <a:p>
            <a:pPr marL="3398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1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ce réservé du numéro de diapositive 4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F2F40-59B7-4B7A-8E8A-2F93B8B60B54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Espace réservé de la date 5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76160" y="609480"/>
            <a:ext cx="7467480" cy="61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Les districts hydrographiques en France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1676520" y="6232680"/>
            <a:ext cx="74674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5486400" y="1828800"/>
            <a:ext cx="350532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 districts hydrographiques correspondent aux grands bassins franç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firmation gestion et planification par bassin versa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Object 4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3673440" cy="4521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1752480" y="62485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irection de l’Eau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72484-76E9-4434-8A1C-233107AA3622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00200" y="68544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3c49a8"/>
                </a:solidFill>
                <a:latin typeface="Arial"/>
              </a:rPr>
              <a:t>Atteinte du bon état des eaux de surface en 2015</a:t>
            </a:r>
            <a:endParaRPr b="1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3071880" y="1685880"/>
            <a:ext cx="9144000" cy="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0120" y="6400800"/>
            <a:ext cx="1523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: agences de l’eau, 200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1"/>
          <a:stretch/>
        </p:blipFill>
        <p:spPr>
          <a:xfrm>
            <a:off x="2514600" y="1301760"/>
            <a:ext cx="4533840" cy="555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ce réservé du numéro de diapositive 3"/>
          <p:cNvSpPr/>
          <p:nvPr/>
        </p:nvSpPr>
        <p:spPr>
          <a:xfrm>
            <a:off x="0" y="4267080"/>
            <a:ext cx="152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C98B95-ABD7-4A4B-B42A-DC14B8606D65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Espace réservé de la date 4"/>
          <p:cNvSpPr/>
          <p:nvPr/>
        </p:nvSpPr>
        <p:spPr>
          <a:xfrm>
            <a:off x="0" y="3809880"/>
            <a:ext cx="15210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Décembre 200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533520"/>
            <a:ext cx="73915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300" spc="-1" strike="noStrike">
                <a:solidFill>
                  <a:srgbClr val="3c49a8"/>
                </a:solidFill>
                <a:latin typeface="Arial"/>
              </a:rPr>
              <a:t>Atteinte du bon état des eaux souterraines en 2015</a:t>
            </a:r>
            <a:endParaRPr b="1" lang="en-US" sz="23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3537000" y="1371600"/>
            <a:ext cx="3871800" cy="5486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ristophe</cp:lastModifiedBy>
  <dcterms:modified xsi:type="dcterms:W3CDTF">2009-01-26T09:30:58Z</dcterms:modified>
  <cp:revision>8</cp:revision>
  <dc:subject/>
  <dc:title>La politique française de l’eau</dc:title>
</cp:coreProperties>
</file>